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720-66C5-4315-9401-5035E6D7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E08-FACA-4934-91BB-56C0901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B3A-CD45-445B-9561-DA92AD54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A82-4F8F-41E4-9E16-F2D4781F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A0D7-4831-4AE2-9172-F338E247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AA587-B0CF-4C31-BB35-DE4553A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5AC7B-453D-4463-B883-100859B6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1A76E-7DDF-4465-A8DC-FF9952EB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B9F50-49EC-45ED-B6D2-9D31259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EAAE-889D-4736-8178-665CEE7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762E1-7149-4339-B5FA-030B678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F3B-B754-4406-99F7-4DEFB8A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1E07A-D13C-4BA7-AC87-7BC2EBD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99D98-B551-42FC-BD5D-E709BDC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B9C12-18EC-482A-B01C-48EA1E6F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9C02C-E645-48AE-9288-F56C35C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081BF-6B7D-4176-8FD4-57388A2B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A45-2AFE-46F3-B6D4-E93EC9A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0F7-7397-486D-A817-6274E203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418-3755-4CE9-B2CA-6640280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BC0-E15B-43A7-83EC-58B8155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D8E-C416-4F8B-BB82-21BF71F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FD9-196A-4F78-A8D3-16AE711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F67-5CF2-41D4-8E26-7C08BFF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2B6-AC2A-4048-8879-BA4490C41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5103-08F8-4365-B7CE-F9BF83CEE2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</a:rPr>
              <a:t>Is Man Inherently Evil as Golding suggests i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Papyrus"/>
              </a:rPr>
              <a:t>Lord of The Fli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</a:rPr>
              <a:t>How did I become me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pyrus"/>
              </a:rPr>
              <a:t>I got the job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pyrus"/>
              </a:rPr>
              <a:t>And here I am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How do I want to be described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Adventurous, fair, crafty curious, intelligent, jovial diligent, generous, bright, charismatic, exuberant, cooperative, fierce, conscientious, loving, loved, friendly, satisfied, happy……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Could I be described as…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Bossy, bitchy, immature, foolish impulsive, impatient, aggressive, fidgety, cowardly critical, grumpy, gullible, harsh, arrogant, mean, impudent, lackadaisical, lazy, hateful, hated………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What determines my character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ho am 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I am confident, determined……I am a work in progres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I was not born any of these things.  My experiences have shaped how I see the world, but I choose to be who I a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pyrus"/>
              </a:rPr>
              <a:t>I am m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No one can chang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</a:rPr>
              <a:t>I am one of 7 childr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No one has time for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I had to put my dog to sleep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No one asked how I fe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My parents are getting divorc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here will I l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</a:rPr>
              <a:t>I am Captain of the Volleyball te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They must really think I am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My friend died in a car accid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pyrus"/>
              </a:rPr>
              <a:t>Who am I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ow do I deci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I want to be a good pers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reat others how I want to be tre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pyrus"/>
              </a:rPr>
              <a:t>He asked me to marry him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Life is going to be perfec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7:10:58Z</dcterms:created>
  <dc:creator>Eldred Central School</dc:creator>
  <dc:description/>
  <dc:language>en-US</dc:language>
  <cp:lastModifiedBy>Eldred Central School</cp:lastModifiedBy>
  <dcterms:modified xsi:type="dcterms:W3CDTF">2010-07-06T12:30:36Z</dcterms:modified>
  <cp:revision>3</cp:revision>
  <dc:subject/>
  <dc:title>I am one of 7 children </dc:title>
</cp:coreProperties>
</file>